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BCA-C64B-4937-9D1E-6D7F0BEF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5E5-B032-48C1-AF07-8E09970D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516-9ED9-45F9-9C28-DE57A76B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70F-33D5-435C-8E1E-06C9EE24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FACD-F069-4233-BF75-29F6F73A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9FC6-76B6-4DB9-A24E-0FA9D730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EC52-225F-4A78-ACB4-2566A1FC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3952-FE06-41B0-872F-B106D35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64D1-1655-4CC5-B16A-5840CC05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2E71-F38C-4473-B18B-3AC7628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C726-0034-4BC6-9576-D507E45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DB8-01A2-44D3-88CD-F66EA90B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45D0-D44B-4C13-881D-43386B18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E9D2-362F-453C-A205-D5F278B6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7351-CCB9-4C17-8369-B13D410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0F7B-8671-477C-928E-C60DF855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7AD7-FEDE-4CC2-B325-5CBEF0AE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45080-846E-4384-AEEE-ED4E6AC9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A337-74B7-45CB-9BC2-E92D4BAD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586E-D06E-4330-BE20-6810F175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AECE-84F2-4E10-90C9-6870849D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F0D4-E0F6-44CC-9E0B-ABB7F4BB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03A-16B7-45A2-AC9E-C3AE867C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04E6-4B55-4F7C-B631-B4898E86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C265-AF6A-44F4-ACDA-2D0B674D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1B7D-1E4C-42AC-A0F4-3E495AA8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76B5-D3E3-4431-975F-91126D5A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C6D1-F950-44A6-A7C7-1AA5AF78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7B04-716C-4080-9097-93F9BDA1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9BCE2-90AE-42EF-A220-1FE69D99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D233D-B89D-4D92-A794-2E1ED4B7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C518E-C9F4-45AC-B72C-04D7324B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DADF-1AE5-44D9-A7DF-82D21FB8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B01-87FB-47DF-A773-BBDD173F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64B06-D125-4E5C-9D98-DEF0DD4D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4609-DA4A-43EA-AA90-DF0E6CF6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7D659-2F1A-4243-BE83-B02143D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688F9-14E6-4031-9AD6-920589FE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40D60-C242-4521-A572-7312FEAB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D32E-EA73-43C1-ADCA-AA90964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F5F9-7A9D-4FB6-A262-ACCED1BE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DC21C-787A-4F8F-878E-CF185B55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DA6B7-A288-4FCE-A0FE-7A54CBBE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7AAF9-DDE7-474D-A109-80F8AF02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F5A-E8BF-4DEB-9376-5B798B50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7E2A-7159-4074-AD0B-A002B24F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3C225-A4E4-4BB4-A820-EF6E583D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26C62-ECD1-456E-BB5C-2DE1DA98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C7B4-2D1F-4FCD-B366-15167CC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7C4F-C687-4D90-963E-23379A27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F85C8-E686-4B04-81B9-D968E20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3C15C-2C11-4918-8701-E3DCEAFE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B893B-BF6A-41AA-BD7C-BA98EDD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9A81-F29E-439E-A55D-13A005A4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ED45D-A98A-42BE-83B2-9D9A7F66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F16-9442-489D-849A-7B6B7C40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BB469-613C-4BCA-9D7B-BC6CCEFC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90BE-635C-4853-97F7-D6AC3C9B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7FEF5-578E-4E39-8ACA-D1CD26EB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51E1B-8169-441C-A843-1CE30E7A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BB9DB-D433-413A-8371-314B1239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5CD7E-C274-44D4-B6AA-1D6DD19C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70A6-C054-461F-BB02-EDB3569F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BEE7D-5708-492E-83EA-FA1E219C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2AA50-8C0C-4C4E-B968-BB841882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3E17-3EFA-480B-B681-0BBE2D27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ECC-D6CF-4247-8421-0E162FB8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8B4E5-A4B7-4543-81AD-200679D9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3147A-2C27-4212-BB21-4B3E6B4D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89D08-3D9B-4011-95B5-0B4C6124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1F950-2F29-4CA1-8672-0F22E599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738FE-3D9C-4862-A738-ED53C754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36F9D-5F7B-4D3C-BE64-5518D34F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3C26-B837-431B-ADF2-4A116DE6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0EC84-A75A-46C0-9C58-7854EB35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957BD-DEEE-4C45-8B06-D4F0D147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A4BB3-1506-4859-BB9C-87859D43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02A-46C5-4564-9536-36EE723B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05B84-0890-42BC-B3B6-9B6625ED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A8DA-C65C-4A6C-B630-E222475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AA1D8-7179-4D8F-8FB0-FC1B67F7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F0E88-D06D-44FB-BEFB-258BD4C8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D32E5-BA0A-42D7-8A69-A5BA4E2F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D71-EE28-4CD1-9D76-E0613139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52E8-0CB3-4881-929C-79F82CD5E47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BBD3-B639-41C0-A342-9722920B06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1F50-4CB2-4E6F-881E-467CA69D99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2B89-60C5-42F5-93AD-77400BA2804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428A-08D5-422A-B7F4-4968CB2C28E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A12F-B35E-4D12-A736-29789001CEF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E168-9B57-432C-B7A0-A17E4867836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2"/>
          <a:stretch/>
        </p:blipFill>
        <p:spPr>
          <a:xfrm>
            <a:off x="682560" y="3333600"/>
            <a:ext cx="8083440" cy="1702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ading Strateg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37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31" name="Content Placeholder 6" descr="3915514014_91b674836d.jpeg"/>
          <p:cNvPicPr/>
          <p:nvPr/>
        </p:nvPicPr>
        <p:blipFill>
          <a:blip r:embed="rId1"/>
          <a:srcRect l="-79825" t="0" r="-79825" b="0"/>
          <a:stretch/>
        </p:blipFill>
        <p:spPr>
          <a:xfrm>
            <a:off x="457200" y="2133720"/>
            <a:ext cx="8229600" cy="42256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304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Arial"/>
              </a:rPr>
              <a:t>Exposi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533520" y="1066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68b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s the stage for the story. Characters are introduced and the setting is describ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3" descr="GreenButton_UpArrow.png"/>
          <p:cNvPicPr/>
          <p:nvPr/>
        </p:nvPicPr>
        <p:blipFill>
          <a:blip r:embed="rId2"/>
          <a:stretch/>
        </p:blipFill>
        <p:spPr>
          <a:xfrm>
            <a:off x="3581280" y="2362320"/>
            <a:ext cx="19004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8242200" cy="8049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conflict begins to unfold as the plot becomes more complex.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uspense build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The characters try to find solutions to the conflic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North3"/>
          <p:cNvPicPr/>
          <p:nvPr/>
        </p:nvPicPr>
        <p:blipFill>
          <a:blip r:embed="rId3"/>
          <a:stretch/>
        </p:blipFill>
        <p:spPr>
          <a:xfrm>
            <a:off x="4479840" y="762120"/>
            <a:ext cx="39783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turning point in the story. The action reaches a peak. Usually results in a change in the characters or a solution to the problem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6" descr="shark"/>
          <p:cNvPicPr/>
          <p:nvPr/>
        </p:nvPicPr>
        <p:blipFill>
          <a:blip r:embed="rId2"/>
          <a:stretch/>
        </p:blipFill>
        <p:spPr>
          <a:xfrm>
            <a:off x="1600200" y="2679840"/>
            <a:ext cx="624852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4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ose ends are tied up and the story end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228744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8" descr="ridesunset"/>
          <p:cNvPicPr/>
          <p:nvPr/>
        </p:nvPicPr>
        <p:blipFill>
          <a:blip r:embed="rId2"/>
          <a:stretch/>
        </p:blipFill>
        <p:spPr>
          <a:xfrm>
            <a:off x="1676520" y="2286000"/>
            <a:ext cx="54864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8089920" cy="9255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066680" y="13716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Line 5"/>
          <p:cNvSpPr/>
          <p:nvPr/>
        </p:nvSpPr>
        <p:spPr>
          <a:xfrm>
            <a:off x="685800" y="41911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1981080" y="342900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8"/>
          <p:cNvSpPr/>
          <p:nvPr/>
        </p:nvSpPr>
        <p:spPr>
          <a:xfrm flipV="1">
            <a:off x="2133720" y="2895120"/>
            <a:ext cx="38088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2514600" y="28954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2666880" y="2362320"/>
            <a:ext cx="381240" cy="76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12"/>
          <p:cNvSpPr/>
          <p:nvPr/>
        </p:nvSpPr>
        <p:spPr>
          <a:xfrm flipV="1">
            <a:off x="1600200" y="3428640"/>
            <a:ext cx="38088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3048120" y="236232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14"/>
          <p:cNvSpPr/>
          <p:nvPr/>
        </p:nvSpPr>
        <p:spPr>
          <a:xfrm flipV="1">
            <a:off x="3200400" y="1828440"/>
            <a:ext cx="38088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15"/>
          <p:cNvSpPr/>
          <p:nvPr/>
        </p:nvSpPr>
        <p:spPr>
          <a:xfrm>
            <a:off x="3581280" y="1828800"/>
            <a:ext cx="76212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4343400" y="419112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304920" y="4343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1143000" y="2438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3352680" y="1371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434340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23"/>
          <p:cNvSpPr/>
          <p:nvPr/>
        </p:nvSpPr>
        <p:spPr>
          <a:xfrm>
            <a:off x="1981080" y="3048120"/>
            <a:ext cx="2438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 Box 24"/>
          <p:cNvSpPr/>
          <p:nvPr/>
        </p:nvSpPr>
        <p:spPr>
          <a:xfrm>
            <a:off x="289548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523880" y="3886200"/>
            <a:ext cx="152640" cy="457200"/>
          </a:xfrm>
          <a:prstGeom prst="line">
            <a:avLst/>
          </a:prstGeom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Line 26"/>
          <p:cNvSpPr/>
          <p:nvPr/>
        </p:nvSpPr>
        <p:spPr>
          <a:xfrm flipV="1">
            <a:off x="1447920" y="3886200"/>
            <a:ext cx="304560" cy="457200"/>
          </a:xfrm>
          <a:prstGeom prst="line">
            <a:avLst/>
          </a:prstGeom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380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28"/>
          <p:cNvSpPr/>
          <p:nvPr/>
        </p:nvSpPr>
        <p:spPr>
          <a:xfrm>
            <a:off x="1981080" y="2895480"/>
            <a:ext cx="0" cy="3049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Line 29"/>
          <p:cNvSpPr/>
          <p:nvPr/>
        </p:nvSpPr>
        <p:spPr>
          <a:xfrm>
            <a:off x="4419720" y="2895480"/>
            <a:ext cx="0" cy="3049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rony- a contrast between what is expected and what actually happen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int of view- the perspective in which the story is narrated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clude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person- “I” nar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person limited- narrator not directly included. and has a limited perspectiv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person omniscient- narrator not directly included and is all-knowing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lashba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ymbolis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racter- antagonist/protagoni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ising 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max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olutio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s integra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s backdro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31522597_57743de2f5.jpeg"/>
          <p:cNvPicPr/>
          <p:nvPr/>
        </p:nvPicPr>
        <p:blipFill>
          <a:blip r:embed="rId2"/>
          <a:stretch/>
        </p:blipFill>
        <p:spPr>
          <a:xfrm>
            <a:off x="152280" y="2971800"/>
            <a:ext cx="4111920" cy="2895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34439223_66bd10689b.jpeg"/>
          <p:cNvPicPr/>
          <p:nvPr/>
        </p:nvPicPr>
        <p:blipFill>
          <a:blip r:embed="rId3"/>
          <a:stretch/>
        </p:blipFill>
        <p:spPr>
          <a:xfrm>
            <a:off x="4419720" y="297180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0"/>
          <p:cNvSpPr/>
          <p:nvPr/>
        </p:nvSpPr>
        <p:spPr>
          <a:xfrm>
            <a:off x="0" y="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0" y="2057400"/>
            <a:ext cx="944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time and place in which a story happens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0" y="41148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gr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Essential to the plot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ckdr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not essential to the plot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. static: stays the same in terms of the proble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. dynamic: the character changes mentall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ple of static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ples of dynamic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Content Placeholder 7" descr="Metamorphosis.jpeg"/>
          <p:cNvPicPr/>
          <p:nvPr/>
        </p:nvPicPr>
        <p:blipFill>
          <a:blip r:embed="rId2"/>
          <a:srcRect l="-3882" t="0" r="-3882" b="0"/>
          <a:stretch/>
        </p:blipFill>
        <p:spPr>
          <a:xfrm>
            <a:off x="4267080" y="1173240"/>
            <a:ext cx="44197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is Plo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6" descr="question%20mark"/>
          <p:cNvPicPr/>
          <p:nvPr/>
        </p:nvPicPr>
        <p:blipFill>
          <a:blip r:embed="rId2"/>
          <a:stretch/>
        </p:blipFill>
        <p:spPr>
          <a:xfrm>
            <a:off x="3705120" y="1447920"/>
            <a:ext cx="5058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878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equence of events in a sto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velop in four stages- exposition, rising action, climax, falling action (resolution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Content Placeholder 5" descr="accomplishments_ambition_182690.jpeg"/>
          <p:cNvPicPr/>
          <p:nvPr/>
        </p:nvPicPr>
        <p:blipFill>
          <a:blip r:embed="rId2"/>
          <a:srcRect l="-31" t="0" r="-31" b="0"/>
          <a:stretch/>
        </p:blipFill>
        <p:spPr>
          <a:xfrm>
            <a:off x="4419720" y="1295280"/>
            <a:ext cx="44956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1:15:15Z</dcterms:created>
  <dc:creator>Shawn Her</dc:creator>
  <dc:description/>
  <dc:language>en-US</dc:language>
  <cp:lastModifiedBy>Shawn Hyer</cp:lastModifiedBy>
  <dcterms:modified xsi:type="dcterms:W3CDTF">2010-04-14T00:50:40Z</dcterms:modified>
  <cp:revision>23</cp:revision>
  <dc:subject/>
  <dc:title>Elements of Literature</dc:title>
</cp:coreProperties>
</file>